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313E-A608-4B19-AD8B-60F2479C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B6C9-49CA-4A5F-ADAC-53E8673D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58EF-879F-49E2-A067-6D81EC66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C0A2-6A43-4ABA-A2F9-C6699DA2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1E2-AD7E-4FDC-A802-50B0E877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318-F4CD-48DD-97A3-B0BD4A85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109-079F-4F2D-8C3C-8A76E27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6C84-EA5D-476E-BCFF-13064CD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1F1-F996-4EF1-8E4D-2D188C7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4A50-DF1E-4163-AB82-8F31862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C4A-D77D-48E7-B19D-7C443F4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A179-8B40-4231-8E45-4988C7C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FE5-2D07-4663-AE5D-9C89CDC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3C52-43DC-4825-868C-CE6A622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A75-BF54-400F-BE15-8D33044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FE5-78C0-4F97-9C76-1D504EBC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3CF2-D6D7-48E7-AD97-E76DA439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7A59-CA51-4392-905D-4AD20D54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4D51-605F-4877-86D0-CC94FB88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DB1F-3C67-44C4-8113-690EBAC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3DA0-262E-4951-95AF-B2E11FE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D00A-759A-4259-86A9-859E97F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68F3-6192-47F3-8484-61F1A92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FD78-E4A5-40D6-B024-9FB7A00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FFB-E788-4ACF-93B9-CBDE328FAF6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407-DB7D-40F7-B341-47FF4B43551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41084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103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а живота изворът 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Христовото сър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грешник там, уми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 си, бива чи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2402640"/>
            <a:ext cx="92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разбойник прикова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ази кръв бе оправда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да бих и аз дош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прощение бих прие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гнец скъп! Таз кръв свя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спасение на све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вярва в Тебе, той съучастник става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как намерих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и извор, от тог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е, Боже, се теш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ен от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9:52Z</dcterms:modified>
  <cp:revision>65</cp:revision>
  <dc:subject/>
  <dc:title>Slide 1</dc:title>
</cp:coreProperties>
</file>